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D33-C16E-439D-8895-E38D4A9A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83A-DE84-403D-B094-8088B355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BE0-0667-49D2-AE4A-C8646524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0AC-4C53-4D6C-8440-349754DC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D6E9-5EC9-4CEF-8AB3-D2BB730B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4E3-169F-4BDA-819F-B72E8D6D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51AD-15C5-454B-93C5-AB5AD9D2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E2F6-B415-4857-962C-821CAB4D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6CC2-2DAE-4259-BBDF-F621F512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21EC-4ECD-4D68-9D6C-F192CA98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EA18-1E4D-4549-A0CE-3D28FCE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7D2-6C15-4F09-8DE8-6ECA01C0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C09D-BBEC-454F-9B19-FD204EE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B1B2-D89E-4E05-8E01-A7D9D93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C236-205A-47B1-AFAA-2112995B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7618-7D6D-48F0-BCB5-30797159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BFA3-5280-4E74-8550-CC3D07C0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0AA2-5D94-4FF1-B9C9-6FF6FA33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40FA-687C-45A2-84FA-0367DA49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AF40-5EB8-4BA7-8D45-7C43450A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81DF-434C-43D7-9B6D-0FC062A1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B5C9-AEDB-499C-85C2-5EA21B76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39C-7E67-4779-8A02-D22D9C30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0193-DE52-40DD-A1A6-91AFE2D0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E166-FD19-4F0D-9E6A-6EC18895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0974E-E7AF-4723-A12C-C83F41B2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A52E-67F7-4865-A1C9-1A90A320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4859-BD30-451B-AD95-2933E5D6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B2F9-80A5-4165-BE63-94B5EDA8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D248-CFF2-40D6-8910-D3E28B36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95052-302A-4F3F-A4F1-8286E156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0B39-23E4-40C6-ABF2-DE443DB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2C34B-73D2-4371-B106-330E83E7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55F-86AB-4078-8A1A-E4CF8D0A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30BF-700C-41D1-92D4-96303E6E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666B6-35B4-4984-B9FD-04F70BAE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C30B-87C3-4682-9C24-C9A18DDC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BA322-D442-4BE8-9EB7-1456FFEA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987B-B308-4586-87F6-0A67B9B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F3387-C286-4F64-807A-7387B0F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43DF-FD2D-43FB-A76D-EFC404C9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F6A0-AED5-4994-B161-83078300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807E-FBA7-4ECB-AAF9-2B49E7D4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5F4C6-43B5-41C3-8C62-8959ED51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338-BC45-40EB-BE66-F4233EE3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FBDD0-E3E7-45B1-B375-426897BF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17BA-5CD3-4DDF-83DD-144DAEB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D5DD8-A6BF-488B-BF90-02912665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8AB4B-B145-43B1-A1B0-241C6738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B3CA-870B-4F44-86D7-5B596646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AAFC-C693-40F1-BEFE-7418DA6A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E2A1-CB3D-4B93-976D-B2B4AD9D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3CF4-A517-4A3C-9402-77B2A09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31C24-0DA4-4607-9EBC-EEA24A69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0F01-38E2-4BDD-95E5-E9EFAD99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279-5C9C-47DC-8ED4-2F3EE10D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9356B-70F4-4729-8929-AAC6AFD4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014-B0DE-4BE8-A45E-D6E4D3C9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22A-1215-4B79-AFA7-B5004FDB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50E-554C-4073-952F-EE290ADC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429-1337-4674-B211-900052D6EAB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89CC-EE1C-4C05-B797-6771A5F36EB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E2CD-9E11-431D-957B-A32FA89003E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04B2-F082-4B77-97E6-D63E22B05AE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0B7E-2EBC-4FDD-BC19-355CB23FEE3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лощади и объёмы</a:t>
            </a:r>
            <a:br>
              <a:rPr sz="4500"/>
            </a:b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328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прямоуг.</a:t>
            </a: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=a*b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404040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кв.</a:t>
            </a: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=a</a:t>
            </a:r>
            <a:r>
              <a:rPr b="1" lang="ru-RU" sz="20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пар-да=</a:t>
            </a: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a*b*c</a:t>
            </a:r>
            <a:r>
              <a:rPr b="0" lang="ru-RU" sz="3600" spc="-1" strike="noStrike">
                <a:solidFill>
                  <a:srgbClr val="40404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40404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куба =</a:t>
            </a: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 a</a:t>
            </a:r>
            <a:r>
              <a:rPr b="1" lang="ru-RU" sz="20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25992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расная площад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Picture 2" descr="C:\Documents and Settings\marina\Рабочий стол\МОЯ ПАПКА УЧИТЕЛЯ\красная площадь_2.jpg"/>
          <p:cNvPicPr/>
          <p:nvPr/>
        </p:nvPicPr>
        <p:blipFill>
          <a:blip r:embed="rId1"/>
          <a:stretch/>
        </p:blipFill>
        <p:spPr>
          <a:xfrm>
            <a:off x="468360" y="981000"/>
            <a:ext cx="8297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620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лощадь прямоугольн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6" name="Picture 5" descr="E:\мнемо-картинки\сталин+ленин.jpg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лощадь квадра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C:\Documents and Settings\marina\Рабочий стол\МОЯ ПАПКА УЧИТЕЛЯ\МНЕМОТЕХНИКА\мнемо-картинки\площадь квадрата.jpg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0464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се площад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C:\Documents and Settings\marina\Рабочий стол\МОЯ ПАПКА УЧИТЕЛЯ\МНЕМОТЕХНИКА\мнемо-картинки\ВСЕ ПЛОЩАДИ ВМЕСТЕ.jpg"/>
          <p:cNvPicPr/>
          <p:nvPr/>
        </p:nvPicPr>
        <p:blipFill>
          <a:blip r:embed="rId1"/>
          <a:stretch/>
        </p:blipFill>
        <p:spPr>
          <a:xfrm>
            <a:off x="826920" y="1197000"/>
            <a:ext cx="7535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26028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ъём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4" descr="C:\Documents and Settings\marina\Рабочий стол\МОЯ ПАПКА УЧИТЕЛЯ\бокал со льдом.jpg"/>
          <p:cNvPicPr/>
          <p:nvPr/>
        </p:nvPicPr>
        <p:blipFill>
          <a:blip r:embed="rId1"/>
          <a:stretch/>
        </p:blipFill>
        <p:spPr>
          <a:xfrm>
            <a:off x="0" y="2746440"/>
            <a:ext cx="3027240" cy="4111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marina\Рабочий стол\МОЯ ПАПКА УЧИТЕЛЯ\бокал со льдом_2.jpg"/>
          <p:cNvPicPr/>
          <p:nvPr/>
        </p:nvPicPr>
        <p:blipFill>
          <a:blip r:embed="rId2"/>
          <a:stretch/>
        </p:blipFill>
        <p:spPr>
          <a:xfrm>
            <a:off x="5724360" y="2703600"/>
            <a:ext cx="3046680" cy="415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Documents and Settings\marina\Рабочий стол\МОЯ ПАПКА УЧИТЕЛЯ\бокал со льдом_3.jpg"/>
          <p:cNvPicPr/>
          <p:nvPr/>
        </p:nvPicPr>
        <p:blipFill>
          <a:blip r:embed="rId3"/>
          <a:stretch/>
        </p:blipFill>
        <p:spPr>
          <a:xfrm>
            <a:off x="2411280" y="1197000"/>
            <a:ext cx="4341960" cy="2436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C:\Documents and Settings\marina\Рабочий стол\МОЯ ПАПКА УЧИТЕЛЯ\бокал со льдом_4.jpg"/>
          <p:cNvPicPr/>
          <p:nvPr/>
        </p:nvPicPr>
        <p:blipFill>
          <a:blip r:embed="rId4"/>
          <a:stretch/>
        </p:blipFill>
        <p:spPr>
          <a:xfrm>
            <a:off x="2411280" y="36450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188640"/>
            <a:ext cx="8183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ъём параллелепипеда</a:t>
            </a:r>
            <a:br>
              <a:rPr sz="3600"/>
            </a:br>
            <a:r>
              <a:rPr b="1" lang="en-US" sz="5400" spc="-1" strike="noStrike">
                <a:solidFill>
                  <a:srgbClr val="404040"/>
                </a:solidFill>
                <a:latin typeface="Verdana"/>
              </a:rPr>
              <a:t> V</a:t>
            </a:r>
            <a:r>
              <a:rPr b="1" lang="ru-RU" sz="3600" spc="-1" strike="noStrike">
                <a:solidFill>
                  <a:srgbClr val="404040"/>
                </a:solidFill>
                <a:latin typeface="Verdana"/>
              </a:rPr>
              <a:t>пар-да=</a:t>
            </a:r>
            <a:r>
              <a:rPr b="1" lang="en-US" sz="3600" spc="-1" strike="noStrike">
                <a:solidFill>
                  <a:srgbClr val="404040"/>
                </a:solidFill>
                <a:latin typeface="Verdana"/>
              </a:rPr>
              <a:t>a*b*c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5" descr="C:\Documents and Settings\marina\Рабочий стол\МОЯ ПАПКА УЧИТЕЛЯ\МНЕМОТЕХНИКА\мнемо-картинки\Объём коробки_2.jpg"/>
          <p:cNvPicPr/>
          <p:nvPr/>
        </p:nvPicPr>
        <p:blipFill>
          <a:blip r:embed="rId1"/>
          <a:stretch/>
        </p:blipFill>
        <p:spPr>
          <a:xfrm>
            <a:off x="2556000" y="1773360"/>
            <a:ext cx="40910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183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бъём куба</a:t>
            </a:r>
            <a:br>
              <a:rPr sz="3200"/>
            </a:br>
            <a:r>
              <a:rPr b="1" lang="en-US" sz="4900" spc="-1" strike="noStrike">
                <a:solidFill>
                  <a:srgbClr val="404040"/>
                </a:solidFill>
                <a:latin typeface="Verdana"/>
              </a:rPr>
              <a:t> V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куба =</a:t>
            </a: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 a</a:t>
            </a:r>
            <a:r>
              <a:rPr b="1" lang="ru-RU" sz="32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Picture 2" descr="C:\Documents and Settings\marina\Рабочий стол\МОЯ ПАПКА УЧИТЕЛЯ\МНЕМОТЕХНИКА\мнемо-картинки\объём пар-да 001.jpg"/>
          <p:cNvPicPr/>
          <p:nvPr/>
        </p:nvPicPr>
        <p:blipFill>
          <a:blip r:embed="rId1"/>
          <a:stretch/>
        </p:blipFill>
        <p:spPr>
          <a:xfrm>
            <a:off x="2627280" y="1916280"/>
            <a:ext cx="39751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9:46:53Z</dcterms:created>
  <dc:creator>User</dc:creator>
  <dc:description/>
  <dc:language>en-US</dc:language>
  <cp:lastModifiedBy>User</cp:lastModifiedBy>
  <dcterms:modified xsi:type="dcterms:W3CDTF">2013-07-05T18:30:18Z</dcterms:modified>
  <cp:revision>8</cp:revision>
  <dc:subject/>
  <dc:title>Площади и объёмы </dc:title>
</cp:coreProperties>
</file>